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8772"/>
        <c:axId val="11169299"/>
      </c:barChart>
      <c:catAx>
        <c:axId val="31608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69299"/>
        <c:crosses val="autoZero"/>
        <c:auto val="1"/>
        <c:lblAlgn val="ctr"/>
        <c:lblOffset val="100"/>
        <c:noMultiLvlLbl val="0"/>
      </c:catAx>
      <c:valAx>
        <c:axId val="11169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8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0A6-1865-43A9-9793-D8C6D6BF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F6A-27E5-4DF2-85AF-D15D6C6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CC5-2AB8-4EE0-80EC-4C5A14BD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537-8C66-4A17-8D5F-0BC74787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CCA-C1B5-413B-BC76-69B9131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732-BA8E-42DA-9F45-0C8BC93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4AC-0966-41D0-914D-DA587A3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18-4AB1-49E1-8466-84B50385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436-230B-4F7F-BF56-3D57948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1DE-1D2C-40D7-B010-317F47D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C62-3268-4E52-B311-28023B6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F85-83F2-4C18-A743-7A028FD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03E1D-627C-496F-B497-106F48052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