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46692"/>
        <c:axId val="89111190"/>
      </c:barChart>
      <c:catAx>
        <c:axId val="98046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11190"/>
        <c:crosses val="autoZero"/>
        <c:auto val="1"/>
        <c:lblAlgn val="ctr"/>
        <c:lblOffset val="100"/>
        <c:noMultiLvlLbl val="0"/>
      </c:catAx>
      <c:valAx>
        <c:axId val="89111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6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16EC-D6BA-4CC4-A87A-11A5ED6D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F020-85F9-4753-823D-5737CCEA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BACE-3BAD-4B3E-84E6-020314A3C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37B9-CDF1-477B-B2A4-14F2F2C92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0924-ACE0-4B7A-AED1-451B10DC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7883-1691-4B78-95B9-BE5D154C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730-4FC3-43A6-85B5-718DDC3F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8B7-BA5A-4C40-A031-4EF65F1E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B18-1161-4609-8729-439EC4DA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D7F4-3522-4D9B-B7E2-5E1BB834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332-BCE1-4495-AAF9-C5B9AAB0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CD55-8E77-4E22-A26F-2C7F2A72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F3B75-3BC1-49A4-AFD5-C45D59FE5E9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