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46850"/>
        <c:axId val="72631364"/>
      </c:barChart>
      <c:catAx>
        <c:axId val="13946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31364"/>
        <c:crosses val="autoZero"/>
        <c:auto val="1"/>
        <c:lblAlgn val="ctr"/>
        <c:lblOffset val="100"/>
        <c:noMultiLvlLbl val="0"/>
      </c:catAx>
      <c:valAx>
        <c:axId val="72631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46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58C5-9FBF-4B63-8B0B-327EDED01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C577-1ADF-4616-8607-09E6EE6D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80B3-3447-46CF-A1A5-F717F08C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D5A2-957F-4741-853B-57CCBED6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AE4-15AA-44D8-B3F5-E06FB2B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405D-F607-4AA1-8177-DD8C2037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47B8-8253-4C16-AAAB-D62E99CE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34CE-3A5A-4C5F-B859-1DF74863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C225-ADCA-482C-AA9B-3F8A1327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B786-A9D4-431A-A94E-026A45B5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1728-4C22-4738-B9DE-7E3F2BFC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BDF-50B3-4839-AC0F-F17372D5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50240-52EB-4486-BA5B-F7618324AB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