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15495"/>
        <c:axId val="18406769"/>
      </c:barChart>
      <c:catAx>
        <c:axId val="52315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06769"/>
        <c:crosses val="autoZero"/>
        <c:auto val="1"/>
        <c:lblAlgn val="ctr"/>
        <c:lblOffset val="100"/>
        <c:noMultiLvlLbl val="0"/>
      </c:catAx>
      <c:valAx>
        <c:axId val="18406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15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DC0-FC61-4EFC-B7AC-26D95364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AB8-8A74-4D07-804F-F7B2B8C8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490-B86A-4534-8C35-FE9E27BE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402-185E-49B9-A1C3-536151F9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8E7-17DE-4570-95BE-04D2AF19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E0A-FEE9-45A7-B8DC-7532CB7B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8CC-8857-42E2-BF1C-1310E81B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872-FB82-4EEE-B534-7D46DAE4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1F8-B52C-486D-B4B0-F0AB35A7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1D6-ADCD-44A1-973B-61C9D996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1FD-3E5E-4907-94B1-5BF2D4D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D6A-3BB4-46C6-9F2B-8A0EA42F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CBD7F-438E-402E-A096-6C7F9FED22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