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99975"/>
        <c:axId val="8797023"/>
      </c:barChart>
      <c:catAx>
        <c:axId val="98699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7023"/>
        <c:crosses val="autoZero"/>
        <c:auto val="1"/>
        <c:lblAlgn val="ctr"/>
        <c:lblOffset val="100"/>
        <c:noMultiLvlLbl val="0"/>
      </c:catAx>
      <c:valAx>
        <c:axId val="8797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99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AA0-C33A-4933-B5F2-1B698970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F6C-E0F6-4FB7-B942-5B885DA1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C4C-8297-44E6-9E3A-43366FBC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1A9-0602-449A-88FC-C8B7A030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DD5-2C1C-448D-A53A-B49E1A29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E97-BB9D-4597-BF3F-E7F078B0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D4F-6AC1-40B4-89B5-940628A8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934-FB15-4435-A62F-5F4BAC78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8FE-56F9-45D5-808E-353E66E7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057-54C4-46DD-AD40-93781A5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30B-1554-4828-B4EF-5EDE660B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85E-C768-46D1-93AE-253FF7B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C51EB-5D5F-4676-9239-444BE45A17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