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71543"/>
        <c:axId val="37864240"/>
      </c:barChart>
      <c:catAx>
        <c:axId val="38771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4240"/>
        <c:crosses val="autoZero"/>
        <c:auto val="1"/>
        <c:lblAlgn val="ctr"/>
        <c:lblOffset val="100"/>
        <c:noMultiLvlLbl val="0"/>
      </c:catAx>
      <c:valAx>
        <c:axId val="37864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1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1E7-117E-40F1-9EB3-2082F6AD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184-E354-45C4-B7AC-873A504C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C8E-660C-4DB5-8CBE-62BC8AFD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732-353B-421F-B354-524831AF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7FE-08CE-4839-BA31-5D119AC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457-6A38-41A2-AE8D-D45E7423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60A-DFEA-442D-9950-79F5DC07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ABD-BFB4-4835-A86A-34959838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4D7-0920-46E5-9BF2-06D76D76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CC2-FEAB-49F2-997A-CB0CC6D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0CF-F552-4FD2-A106-8EE392C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FC8-50B3-4F8C-99EF-FCEF0C87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C052E-0B63-4AA4-95A9-21F05F1192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