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78394"/>
        <c:axId val="89962599"/>
      </c:barChart>
      <c:catAx>
        <c:axId val="81878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2599"/>
        <c:crosses val="autoZero"/>
        <c:auto val="1"/>
        <c:lblAlgn val="ctr"/>
        <c:lblOffset val="100"/>
        <c:noMultiLvlLbl val="0"/>
      </c:catAx>
      <c:valAx>
        <c:axId val="89962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78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203-F39D-429D-B904-CEAF89AC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DC8-AED0-4145-B259-C07D42E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5E7-2BE9-40B7-8528-D888A76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6AF-A368-4C53-8EF3-A6BCFA42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D56-75A2-4D85-8060-B0A22133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791-BA93-446A-B5B9-93E84B4A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868-46F9-4B67-A69D-BF14BB0A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22E-938A-4758-82CD-B739F391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153-B932-4068-B9D6-88638038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331-1F22-4F44-A51C-698CAB68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8C4-8AB1-434E-AEA0-F3E0196C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18C-BB40-421F-81D3-1BA1605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D7939-6FDA-4846-B76C-C0EDDC650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