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44347"/>
        <c:axId val="27946412"/>
      </c:barChart>
      <c:catAx>
        <c:axId val="50444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46412"/>
        <c:crosses val="autoZero"/>
        <c:auto val="1"/>
        <c:lblAlgn val="ctr"/>
        <c:lblOffset val="100"/>
        <c:noMultiLvlLbl val="0"/>
      </c:catAx>
      <c:valAx>
        <c:axId val="27946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44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553-4614-41FF-AED5-3DD686B3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D12-43A3-4B1E-8B6F-BA8C2403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A1D-6FB8-4E9B-A6FB-FB3F9EA4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E9C-DC98-48EF-896F-46BC4D41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DE5-E710-4E04-B46F-96AB4EAA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037-BAE7-44BE-9998-19365204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A19-AD69-4A82-AAB1-CCA6CD0C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8AD-7187-40E6-A105-BF378D93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AF2-B1EB-435B-8283-D9F6A729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AB6-65A9-4276-A163-A4796ED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7F2-9C21-44D0-B869-85EAFB2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D92-A4CA-4BA7-81F0-4FAED28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4F96D-C7FA-4B5D-89DA-66FDA032EC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