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21591"/>
        <c:axId val="70470661"/>
      </c:barChart>
      <c:catAx>
        <c:axId val="437215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70661"/>
        <c:crosses val="autoZero"/>
        <c:auto val="1"/>
        <c:lblAlgn val="ctr"/>
        <c:lblOffset val="100"/>
        <c:noMultiLvlLbl val="0"/>
      </c:catAx>
      <c:valAx>
        <c:axId val="70470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215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120-4704-4BDB-A2AC-737C0070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0A42-574D-45B9-80E7-9184513C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6BD5-64B7-4966-8938-0695B857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4BD-2ADF-4BA3-A9C2-C8D829324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DAF-CFE8-45BC-A272-F750B001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1A1-7106-430F-BDB3-314CA85A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4F5-24B9-46F4-8B06-9DBE18B2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152A-A6D5-4788-87B2-DCEC4489A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B5AD-3130-4BD6-91B5-BCAEB791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8443-BD09-426A-9CBB-AC8C8FA2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D6A0-E7CF-43B6-A13F-99F4E861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C121-50E7-480C-A715-106BE99BD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A3AC3-F4C8-4ADE-94A7-95A1CC2203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