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25155"/>
        <c:axId val="46795149"/>
      </c:barChart>
      <c:catAx>
        <c:axId val="45525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95149"/>
        <c:crosses val="autoZero"/>
        <c:auto val="1"/>
        <c:lblAlgn val="ctr"/>
        <c:lblOffset val="100"/>
        <c:noMultiLvlLbl val="0"/>
      </c:catAx>
      <c:valAx>
        <c:axId val="46795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25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A8C-80A1-40EB-ACC9-2E6D997A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92F-A6A6-4E48-8843-D67E170C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3DB-FFE7-4570-ACC1-FAD05FC3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7C8-9616-4E1F-A06B-EF179090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C59-F12A-41C8-A054-AF92ACAB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529-C12F-43E2-AC16-45ADF03F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23F4-7FC7-434B-B1BC-3F4A1FC9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6BB-F973-4CA6-85FA-9983A080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A3A-9D67-4C7C-B1AB-0695FA20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3C6-2270-4274-84A4-169CB0E2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790-ABC7-4928-A913-AC541814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92A-B88C-4364-91C0-8884662A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5DE3E-E5A6-4B47-8701-5859D826F9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