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99257"/>
        <c:axId val="8458433"/>
      </c:barChart>
      <c:catAx>
        <c:axId val="20499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8433"/>
        <c:crosses val="autoZero"/>
        <c:auto val="1"/>
        <c:lblAlgn val="ctr"/>
        <c:lblOffset val="100"/>
        <c:noMultiLvlLbl val="0"/>
      </c:catAx>
      <c:valAx>
        <c:axId val="8458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99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A6D-BC7F-4674-BC4C-EEFB8D97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254-AC59-42F4-BF2B-07228CD4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C5E-49EF-46D5-9D6A-7C319BA9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B1F-F89A-4866-8CFE-E683DB2C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C84-F343-49A9-93DE-45CFFD2E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274A-F989-43AF-8A65-71256755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A58-AE55-497D-BD7B-54EA1DE6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B9E-3D1C-44DE-880D-FAB120A0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789-4E08-4EB3-9371-FA49D67C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D35-0DE8-4DB4-9F5E-50B7C0C6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209-F430-4D70-B8D2-E3771249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BC0-B27A-4ED2-9AFC-2F33867E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03C6E-9F43-4F01-97E0-CE3FAF7606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