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421889"/>
        <c:axId val="86511502"/>
      </c:barChart>
      <c:catAx>
        <c:axId val="884218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11502"/>
        <c:crosses val="autoZero"/>
        <c:auto val="1"/>
        <c:lblAlgn val="ctr"/>
        <c:lblOffset val="100"/>
        <c:noMultiLvlLbl val="0"/>
      </c:catAx>
      <c:valAx>
        <c:axId val="865115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218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030C-F0E3-4E95-8C13-6B85D223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C3C2-16BC-4CEB-A6E9-56A92522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C3C7-CD42-4163-80F2-F7C614F2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F3FB-EA5E-4032-9BC2-D691B940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43F0-D7E8-41C7-92AC-A4E1E9E0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2366-FE15-4761-87CC-8688E02E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3C5B-5A7C-4802-A0ED-C20C3B71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425C-9FD2-4FB7-8D82-0F054306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0ADF-355C-4091-AC62-C74E9D88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AB8-FEF2-4B87-A272-7E62BC2B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A3E8-D70A-4673-A887-26F4041D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FABF-CE35-4196-A10B-FC5FC742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E1C4B-2589-4EE9-9A1C-9E631B7E2C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