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119727"/>
        <c:axId val="61983143"/>
      </c:barChart>
      <c:catAx>
        <c:axId val="501197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83143"/>
        <c:crosses val="autoZero"/>
        <c:auto val="1"/>
        <c:lblAlgn val="ctr"/>
        <c:lblOffset val="100"/>
        <c:noMultiLvlLbl val="0"/>
      </c:catAx>
      <c:valAx>
        <c:axId val="619831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197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DCE-A9BD-41C2-9FAB-733A95F83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86CD-982C-4A53-A3D7-1707BC18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A264-ED11-4068-A9AF-C7812033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968-62F6-4E5F-9916-44C8F003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7C5-98EA-4471-AC94-108D469C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FA32-9385-443C-8633-F89589E2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DC0B-FAC8-453B-A5F0-2250CDF2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403C-C76B-4B0E-9230-7877BF5B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74AC-3C38-4359-AA90-CBFF4BE4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9140-97AB-4C11-AE7A-02CB0271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AFD6-A3D4-40C6-8CFA-FE510665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EA9-18A1-47D8-B248-B9AB3C1D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E2BA7-30A3-46F7-899C-9B7E55C5F8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