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72027"/>
        <c:axId val="19512762"/>
      </c:barChart>
      <c:catAx>
        <c:axId val="67472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12762"/>
        <c:crosses val="autoZero"/>
        <c:auto val="1"/>
        <c:lblAlgn val="ctr"/>
        <c:lblOffset val="100"/>
        <c:noMultiLvlLbl val="0"/>
      </c:catAx>
      <c:valAx>
        <c:axId val="19512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72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34C-EA73-431A-BD0A-BF225913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130-1F01-419C-B000-A5862B5E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082-1C64-4FD3-A01D-A2E6747A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49DB-6687-4878-9872-5E408310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D6BE-5C5F-423E-8CF1-CD0DF414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E17-617F-46DB-8D7D-2C8BF657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1BA-762D-475A-9B90-D89D08F5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7D48-20FC-48B1-9C81-27922D7D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6C1-1232-4076-BDE6-A33A7375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3BA-43E2-4658-9543-6FBDD003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921D-B58A-4D6F-9391-1283B6A0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42A-793F-4D1D-A1EE-05C2229A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B8275-9775-48C3-A808-8FB828D0E3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