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51477"/>
        <c:axId val="8921129"/>
      </c:barChart>
      <c:catAx>
        <c:axId val="468514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1129"/>
        <c:crosses val="autoZero"/>
        <c:auto val="1"/>
        <c:lblAlgn val="ctr"/>
        <c:lblOffset val="100"/>
        <c:noMultiLvlLbl val="0"/>
      </c:catAx>
      <c:valAx>
        <c:axId val="8921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514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B47-88E9-4BFB-8F59-3103A0F9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4DA-FE21-4216-8ECC-DA66D5C5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5EB-11E1-420E-92BE-D534F73E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B60-A1A7-47D0-8B89-40ECEFF7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B6C7-9466-4BE8-B288-2B71ACA2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7D9-FE06-43BB-B023-640AA24D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B08-48FD-46CD-B019-B5404383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79D-A04C-46B3-B73B-2A3854A2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1C0-39ED-45B4-AA9C-7FA1AAC5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BBD1-AA97-4BEE-8DB0-02A7D591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BD1-2E53-45EA-A7FD-415C63AC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A51C-A500-49AA-B73C-218D5402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EF2DC-D813-4AF2-BE06-19F1F15EA9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