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87778"/>
        <c:axId val="48159924"/>
      </c:barChart>
      <c:catAx>
        <c:axId val="49887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9924"/>
        <c:crosses val="autoZero"/>
        <c:auto val="1"/>
        <c:lblAlgn val="ctr"/>
        <c:lblOffset val="100"/>
        <c:noMultiLvlLbl val="0"/>
      </c:catAx>
      <c:valAx>
        <c:axId val="48159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87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51B-6B77-4791-A16F-23D99FCD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DEC-A481-46D4-89F3-80EF549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033-90F3-4D6A-A57F-CA7B021D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056-3D07-4899-9161-445744AC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141-7143-4C86-834F-DB1D763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7BF-0B33-4B83-B955-4961C2E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48B-59B9-4B7B-A35B-E3CA7519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09E-45BE-49FA-BE3F-9A6204B1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FF7-9B8F-458F-A1A9-1DC6CCA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DEC-DDA3-41EF-83BD-682137B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168-5E33-4954-A4CD-7CA6991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EB6-B61F-453F-995A-7D58210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A4A51-C3F0-4BC3-90D5-1672AEFDA7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