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98965"/>
        <c:axId val="97894939"/>
      </c:barChart>
      <c:catAx>
        <c:axId val="696989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94939"/>
        <c:crosses val="autoZero"/>
        <c:auto val="1"/>
        <c:lblAlgn val="ctr"/>
        <c:lblOffset val="100"/>
        <c:noMultiLvlLbl val="0"/>
      </c:catAx>
      <c:valAx>
        <c:axId val="978949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989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314D-8C95-4299-82A5-A96AD43F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5B94-372D-40BC-ABB5-B223AF3D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AAC9-F7E0-4ED4-9E9C-A4038314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197B-940D-4FFE-A33C-C7737374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0E5D-C321-48FB-884F-A3E3186E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D1C8-45BD-4922-AFFC-2B5ABAB3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9D64-67AC-4342-BFBC-162DD201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8D5D-D21F-4950-B79F-A060CFC1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75DF-90BC-4848-83E2-4D13D007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4AA1-3685-4635-84CE-E69798F2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4649-FB1C-4035-9D0B-A293A288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41E0-5229-4EEF-825F-5210BE62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6E623-A7CA-474E-B17D-09B822D9C0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