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19821"/>
        <c:axId val="81288790"/>
      </c:barChart>
      <c:catAx>
        <c:axId val="97419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88790"/>
        <c:crosses val="autoZero"/>
        <c:auto val="1"/>
        <c:lblAlgn val="ctr"/>
        <c:lblOffset val="100"/>
        <c:noMultiLvlLbl val="0"/>
      </c:catAx>
      <c:valAx>
        <c:axId val="81288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9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530-EF33-45F6-90F7-5CA025CE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6CE-A52F-4917-B10A-6FBC642D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23A-7899-48B8-9E36-B0A7A7BF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A20-0A89-4EC1-9A62-2EE19861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080-CBA6-4E63-930A-3DA89233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591-7DE5-40FA-9501-E2DD7753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2B1-7A9E-4FC7-9028-9E5ED38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48D-C5E1-4369-AAC2-9905996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A2F-7014-4E42-A66D-C5A218E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725-AA2B-4000-9FB3-31FC54E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D1F-6276-45A2-92C0-8AC8FEC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D0F-04FD-442B-81A9-BBA860E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DF220-92BB-449D-B3A8-020E347B8C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