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817862"/>
        <c:axId val="97587275"/>
      </c:barChart>
      <c:catAx>
        <c:axId val="238178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87275"/>
        <c:crosses val="autoZero"/>
        <c:auto val="1"/>
        <c:lblAlgn val="ctr"/>
        <c:lblOffset val="100"/>
        <c:noMultiLvlLbl val="0"/>
      </c:catAx>
      <c:valAx>
        <c:axId val="975872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178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47CA-9A00-480B-8A50-582AC5D3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03AD-140C-498B-83C8-63AFD75B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C5B1-1618-459C-8FFD-2EA250BC4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CF21-FE4A-46E9-8165-575F52F41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78C6-F87E-48A1-B103-E02FD118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1F1A-0F49-4AF5-BB21-EC01D73A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703F-DE44-4353-A556-DC160132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0D97-E0F9-487F-ABD9-AF2372A9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CCEA-2CDB-443D-BCBD-0D65248C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74E7-2112-4CF1-8704-60FFFEB1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9BD1-9CFA-4FEE-94F4-E8B3FB28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6584-0D10-4558-BE5F-767673CD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5FE58-2278-4F30-B4CB-7898006C5B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