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48154"/>
        <c:axId val="38558465"/>
      </c:barChart>
      <c:catAx>
        <c:axId val="55648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58465"/>
        <c:crosses val="autoZero"/>
        <c:auto val="1"/>
        <c:lblAlgn val="ctr"/>
        <c:lblOffset val="100"/>
        <c:noMultiLvlLbl val="0"/>
      </c:catAx>
      <c:valAx>
        <c:axId val="38558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48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EA1-50B4-4806-B3A8-03C12B83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2CA-5FA1-4629-BD0C-6795BC5A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6CC-5F9B-4FF7-8501-BDEF7D38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3BF-E851-4A02-A5CB-69EE2EBD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0BF-0260-4AFB-B03C-1B426039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616-2F48-4EA2-9525-DABBC71C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DC1-3A37-4AA8-A72C-AFAF64DD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E5C-F51E-4E01-A5A9-49234147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94A-7458-415B-952D-31307E57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694-1849-4D37-9F13-E2DC4C8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85A-CC96-416C-A7C6-28564FA4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D96-B74D-41F8-B6B7-6F226AF0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4151E-6C87-4B10-BB6D-0A90EEB86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