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20005"/>
        <c:axId val="39020735"/>
      </c:barChart>
      <c:catAx>
        <c:axId val="18120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0735"/>
        <c:crosses val="autoZero"/>
        <c:auto val="1"/>
        <c:lblAlgn val="ctr"/>
        <c:lblOffset val="100"/>
        <c:noMultiLvlLbl val="0"/>
      </c:catAx>
      <c:valAx>
        <c:axId val="39020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0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8D4-E3B0-4EB0-8889-F6902949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695-5419-4211-9CF9-F9041176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FF8-D4C4-4C55-9696-798670B2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C5F-B758-4A21-8B52-E58CA995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E70-39A6-4EB1-B07E-4CC0092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0C7-BE3A-49B4-B1AC-1C5844B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6EC-BFA7-49B1-8937-13C8F955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3A6-F053-4143-A4AD-3DCDD4E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12B-46D9-4116-AB22-2BF0402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098-EF19-4ED4-85EE-0202652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4EF-2A44-4C78-A40A-9700CF9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C8C-AA80-4625-8983-6AC1809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F656-39F2-4E3E-AAE9-B9D54537C0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