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967814"/>
        <c:axId val="94698905"/>
      </c:barChart>
      <c:catAx>
        <c:axId val="779678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698905"/>
        <c:crosses val="autoZero"/>
        <c:auto val="1"/>
        <c:lblAlgn val="ctr"/>
        <c:lblOffset val="100"/>
        <c:noMultiLvlLbl val="0"/>
      </c:catAx>
      <c:valAx>
        <c:axId val="946989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9678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4C8D-70E6-4532-A555-F6B3858F5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8DB7-C324-46AC-BB6F-14C2AF393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DC8F-BE3B-407A-82E7-6FC73C055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93D7-409D-4030-93AE-47D26252A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0C8B-4BA6-4F18-B66F-904CABD26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67FD-5E3C-4DB4-B306-FAFCB71FD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700B-FF8A-4A85-8C67-EA8D05994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D67F-F5DC-4AA5-A02D-CFC980BC8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52D4-3C77-4D2A-9336-2F471249A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BAFF-58A5-401F-B384-E024F68D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8CF6-25A7-4329-805A-D03A8C74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ADE0-7EA5-440A-A979-01511AFF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46F000-0945-416D-8688-52A6F8988D2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