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01879"/>
        <c:axId val="57690008"/>
      </c:barChart>
      <c:catAx>
        <c:axId val="67601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90008"/>
        <c:crosses val="autoZero"/>
        <c:auto val="1"/>
        <c:lblAlgn val="ctr"/>
        <c:lblOffset val="100"/>
        <c:noMultiLvlLbl val="0"/>
      </c:catAx>
      <c:valAx>
        <c:axId val="57690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01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FFA-A254-442E-8EF7-A3D59945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835-6662-4140-83A4-9C48AFB2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210-07AC-4E09-BC92-CBBA6231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775-6E5A-4A75-90BF-0CE5176A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F45-22C8-476E-B9C6-C995B236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0ED-7296-4908-BA2E-9E493A49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54E-8B89-40C7-A158-88FF1B5E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BC4-DC26-456C-9728-5910BB88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B92-246F-4F93-A1CE-5556C141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6C1-B4D3-4CB7-B9A7-5173B58C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900-A1E1-4FBA-B3DA-C598B992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54E-5A56-4179-AC82-E73F64D0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496D1-C2AF-4E4B-9610-315A2296D7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