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16159"/>
        <c:axId val="20089079"/>
      </c:barChart>
      <c:catAx>
        <c:axId val="46716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89079"/>
        <c:crosses val="autoZero"/>
        <c:auto val="1"/>
        <c:lblAlgn val="ctr"/>
        <c:lblOffset val="100"/>
        <c:noMultiLvlLbl val="0"/>
      </c:catAx>
      <c:valAx>
        <c:axId val="20089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16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994-1293-454C-BCB3-CA3DC5CF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51B-AF9C-45A7-A519-76AB6E83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6D6-821B-4A48-B7A3-0C81422E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76F-CAA7-4453-A684-5461E2E9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E14-721A-41D5-8222-B20E0B24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E8D-1DE3-494D-82B3-5BA6EF65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180-7CE8-4ED3-9DE5-9B9E7147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4EE-5748-47F1-9DB9-15BFD7DB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03F-4904-45DB-92E5-AACB1314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D46-7943-4867-A49B-D786EB9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996-C80A-4A9E-9496-7CB7E52D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60D-0885-4FAC-B613-B1F7921C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17E9C-4A01-4EB9-B8B9-E72C46C36D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