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1369792"/>
        <c:axId val="4858767"/>
      </c:barChart>
      <c:catAx>
        <c:axId val="6136979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58767"/>
        <c:crosses val="autoZero"/>
        <c:auto val="1"/>
        <c:lblAlgn val="ctr"/>
        <c:lblOffset val="100"/>
        <c:noMultiLvlLbl val="0"/>
      </c:catAx>
      <c:valAx>
        <c:axId val="485876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36979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6F58B-D835-4F86-80E9-72EA31EF4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FCA69-CFB9-4B09-A489-EA0BE082E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71E5E-9010-4254-807C-F7AB71E71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7FE78-0A3E-413D-B2D4-00470BD84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8B9B6-E90A-4159-9BAF-5C8A12920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1F61C-CEAA-44DC-8D18-05492EDBB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62E89-2D41-414B-9A10-AD0976F91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69F3B-F888-4B53-A790-DB6012308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366B1-73BC-48D6-8B12-7EF1575C8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CA944-140F-4E29-857A-97A282D05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127D8-64BE-4DC6-80B7-B141880C3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A6B3C-99F2-496A-A12E-2B91AA863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939D45-F3CF-4419-8801-C5722EB2372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