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9227"/>
        <c:axId val="44875743"/>
      </c:barChart>
      <c:catAx>
        <c:axId val="62389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75743"/>
        <c:crosses val="autoZero"/>
        <c:auto val="1"/>
        <c:lblAlgn val="ctr"/>
        <c:lblOffset val="100"/>
        <c:noMultiLvlLbl val="0"/>
      </c:catAx>
      <c:valAx>
        <c:axId val="44875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9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C0F-4264-4D80-94BF-01603107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764-6B6C-4901-9B0E-E1AA190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933-61AD-430B-A69F-B26E4715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4AB-C55D-44C1-B9A7-1B13927D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B23-FC6C-4F8D-BBFC-499E169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88E-003E-4072-A389-74DC36B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6D5-B1D4-4663-90BE-D47A1E16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3C4-E931-4C84-ABD7-F022F0D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3EC-A8EB-4E28-BB92-7336699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E4F-5500-431A-B72D-96BE00E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0EC-2386-404B-AFEB-F4B7F81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E18-8516-48DD-B6A5-EDBB48D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7F3C4-A757-4B68-870D-2EF2D0BF4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