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02469"/>
        <c:axId val="58111521"/>
      </c:barChart>
      <c:catAx>
        <c:axId val="66902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11521"/>
        <c:crosses val="autoZero"/>
        <c:auto val="1"/>
        <c:lblAlgn val="ctr"/>
        <c:lblOffset val="100"/>
        <c:noMultiLvlLbl val="0"/>
      </c:catAx>
      <c:valAx>
        <c:axId val="58111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2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2FD-4DC4-4FB1-95BA-5DB63A7B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38C-E25F-4D9E-B0B2-8EE6A8D1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191-EF5B-441B-AAC2-A67466DF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29B-CAC0-492E-B343-1A252204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A2B-4862-4648-BC9B-E5957B45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91D-58F0-49B1-A37F-F6D96B9D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27E-80C3-4EBC-80C9-F11C2028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03E-1597-422D-BC93-9BE717CD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AC8-5D3D-4878-93EA-BCF952A0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CB5-59D5-48C9-91CC-EB501609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CE9-FD9D-44F8-BE51-541296F8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305-1075-495D-99EA-49402FB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3E42F-EF97-4A93-8B6A-04AA9DA58A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