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697534"/>
        <c:axId val="56294953"/>
      </c:barChart>
      <c:catAx>
        <c:axId val="456975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94953"/>
        <c:crosses val="autoZero"/>
        <c:auto val="1"/>
        <c:lblAlgn val="ctr"/>
        <c:lblOffset val="100"/>
        <c:noMultiLvlLbl val="0"/>
      </c:catAx>
      <c:valAx>
        <c:axId val="56294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975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E19-E8F2-4F25-BA36-49829EC7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ACC1-4448-4D60-8A5F-E1C309BE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E31-83E1-40F5-92E5-BC2771C1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51D1-8DC8-4B29-A29E-C7B31ADA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04B-D3F6-4963-B72A-DE419221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BED-B8A9-4CF7-B6CC-0F0B1990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A3A3-B8EE-4458-8CCE-DCE858F5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C94-CEC2-4CFD-A270-4BA0A5BF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596-E58C-4E36-9EC3-EBD0F6FA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A4C0-415C-4A8F-A4D7-EF0EF1E1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E8E3-E026-4192-9E0D-6CE1BBB2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719B-EF39-48FD-99B5-3ACCE0EA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4B072-BDF1-42B6-9F41-DE7356DE39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