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92829"/>
        <c:axId val="76391681"/>
      </c:barChart>
      <c:catAx>
        <c:axId val="29192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91681"/>
        <c:crosses val="autoZero"/>
        <c:auto val="1"/>
        <c:lblAlgn val="ctr"/>
        <c:lblOffset val="100"/>
        <c:noMultiLvlLbl val="0"/>
      </c:catAx>
      <c:valAx>
        <c:axId val="763916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92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0530-6270-46BC-A68C-2CEABBF4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7C4-8D20-4AA5-B6A8-1C3F2E1B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FB5C-30B9-47C8-B252-296B3DAB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C9E-A0C0-45F1-87D2-5920ABFD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577-9E1F-4553-9B72-4681BC2C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EE8-560E-41E7-A166-79F3FC5E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200A-4529-4B3D-AE32-1A5EB5DB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01B-1A71-4825-BA9D-64424713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A9F-A178-459B-9C9E-E1828A61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176-F58D-49D2-ACC2-5C23CF82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FE4-117E-450C-B9BC-3FAC08FB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A1B-35DB-4E2A-A396-DCB33AD6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0A570-AFF4-497E-B579-B7AC9FC812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