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311105"/>
        <c:axId val="62185129"/>
      </c:barChart>
      <c:catAx>
        <c:axId val="833111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85129"/>
        <c:crosses val="autoZero"/>
        <c:auto val="1"/>
        <c:lblAlgn val="ctr"/>
        <c:lblOffset val="100"/>
        <c:noMultiLvlLbl val="0"/>
      </c:catAx>
      <c:valAx>
        <c:axId val="621851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111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ED9-04DF-4363-B58A-2E5097D2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E366-7AD1-4565-A5D0-7A9AC521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902-2459-4EA6-9FEF-D57F3055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51D-A2DA-4D43-ABDF-7FC89538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549A-C25C-40D7-8B5B-B7030C76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62D4-7CA1-439D-9BB7-B33FA669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1193-5E28-4CD3-9A83-B67EF2D3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0999-D91E-4D69-B7F1-6F26DF72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F56A-10D8-42B1-A745-91545D52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6042-679A-4AE1-ACA6-D4279201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0549-7A3E-478B-B135-95CC3CCC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F658-77A4-429B-BBE7-65D11B6C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36B89-FB17-463D-8BF4-61ABB5F875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