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485766"/>
        <c:axId val="63007935"/>
      </c:barChart>
      <c:catAx>
        <c:axId val="404857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007935"/>
        <c:crosses val="autoZero"/>
        <c:auto val="1"/>
        <c:lblAlgn val="ctr"/>
        <c:lblOffset val="100"/>
        <c:noMultiLvlLbl val="0"/>
      </c:catAx>
      <c:valAx>
        <c:axId val="630079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4857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38ED-03C3-4048-B7F1-B88219A4B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7794-5939-4CD7-8445-7E2D097D0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48F8-E55E-4484-8D4C-802D370E9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6C3A-B05B-4A32-9EF8-FDEDA51B0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E4A6-B259-43D7-BBAD-AF76F7151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537C-36AA-495A-BDD0-B1E7D33CE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4B35-0944-4AB2-8BBA-D5F95CA16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2961-F6B8-4D52-8FDB-5630A86A6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99DE-4EE9-49CC-8A05-62A957AE4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339F-C981-4499-8FD7-0283F6BC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30DA-3DC9-4A54-BD5B-BB128D6E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6AC8-8DC4-4800-91E5-BC6DEDAC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DD3080-4377-46DB-94EB-7F50BFB9E7C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