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75279"/>
        <c:axId val="78492050"/>
      </c:barChart>
      <c:catAx>
        <c:axId val="18875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92050"/>
        <c:crosses val="autoZero"/>
        <c:auto val="1"/>
        <c:lblAlgn val="ctr"/>
        <c:lblOffset val="100"/>
        <c:noMultiLvlLbl val="0"/>
      </c:catAx>
      <c:valAx>
        <c:axId val="78492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75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0140-9BBE-447D-9600-0A799D49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BF5-4851-40E5-B218-DEE5B7D8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6213-4B97-445E-815C-C7676AA9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375-72AA-431A-A875-190F9FBD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EAF1-636B-4B41-A765-58FBD0C0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4FA7-2422-4311-88EE-DA13FEA4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02B7-4599-418A-9BE7-3E6445A6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569-0B3F-48A3-93A4-00451147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73B-59CF-4146-88E1-FA40E186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AD3-8010-4F9F-801D-38A777CE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83C-BCF9-4D43-ABC6-EC03AF91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55F0-2FE8-482B-AFB2-F617A82B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54E48-489D-4B7E-80EF-3A47D1390D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