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45355"/>
        <c:axId val="33733714"/>
      </c:barChart>
      <c:catAx>
        <c:axId val="82845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33714"/>
        <c:crosses val="autoZero"/>
        <c:auto val="1"/>
        <c:lblAlgn val="ctr"/>
        <c:lblOffset val="100"/>
        <c:noMultiLvlLbl val="0"/>
      </c:catAx>
      <c:valAx>
        <c:axId val="337337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45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C3B-CB07-4912-814F-2CE6204F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BDF-F504-4388-8D66-591FCC1E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B4F-5FBB-4411-8DDB-75D54941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44E-25B8-4212-9540-7FD918B7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DA4-F1DE-4017-A1BF-F17B9BAA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9D2-7C73-4BAA-9059-4A4C20D9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D44-65AF-43D2-9B9B-0DB0D7CF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88C-F8CC-4D78-8BCD-6930B286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CFA-81F5-4350-9BFA-F0ED4729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F54-5171-407B-8882-56CCAA8D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88E-FC07-41A7-A277-E6936633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9C6-6E97-466A-9E6C-47563358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DDB71-C1B8-4E01-8C35-0D694ED04C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