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65626"/>
        <c:axId val="43985805"/>
      </c:barChart>
      <c:catAx>
        <c:axId val="85765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5805"/>
        <c:crosses val="autoZero"/>
        <c:auto val="1"/>
        <c:lblAlgn val="ctr"/>
        <c:lblOffset val="100"/>
        <c:noMultiLvlLbl val="0"/>
      </c:catAx>
      <c:valAx>
        <c:axId val="43985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65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74F-1806-42A3-B223-23DEADA0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420-E9A2-4089-AEE4-365535B1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64D-E26E-41F1-85C0-7129660F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23E-BEDC-4E47-9BD6-53F343C6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2D9-01A4-40BC-9AFA-670BCD9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654-F928-4F91-B2AE-4A0B5D0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B45-FAEC-4AE1-A198-62900D4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0C2-C5A3-4E0D-86D3-637DB1A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5CE-4F0A-4E95-9BE2-E8D2888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70E-9FD1-4214-BD40-16E2F8F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D8E-E7B7-44DD-8F11-F52A15E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DA0-9998-4635-B423-B2C89EA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7EA74-029C-4740-A8D7-A16BBF923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