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42068"/>
        <c:axId val="4922547"/>
      </c:barChart>
      <c:catAx>
        <c:axId val="70942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2547"/>
        <c:crosses val="autoZero"/>
        <c:auto val="1"/>
        <c:lblAlgn val="ctr"/>
        <c:lblOffset val="100"/>
        <c:noMultiLvlLbl val="0"/>
      </c:catAx>
      <c:valAx>
        <c:axId val="4922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42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861-D9A4-4666-A5B7-678C5362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B77-F110-425D-B199-D2BB19D5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FD3-73C1-4869-8ABA-122D5A15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0BB-39EE-4230-9950-AFA75833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502-26D6-492C-B526-DA850449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15F-0440-4730-BD58-CE03EEA0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9A3-8C97-41E7-947D-28F2323D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C60-5036-4700-9263-C46A0CA2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ADC-2ED8-46AD-8BA1-886B450C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990-B8D8-4149-AB3D-DC1DB32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902-2947-4D8C-932C-691295E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BE6-9019-4C8E-8E80-AEBA6F6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7FE9C-210D-4EB7-9B50-94FA20E494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