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96947"/>
        <c:axId val="31498247"/>
      </c:barChart>
      <c:catAx>
        <c:axId val="82196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98247"/>
        <c:crosses val="autoZero"/>
        <c:auto val="1"/>
        <c:lblAlgn val="ctr"/>
        <c:lblOffset val="100"/>
        <c:noMultiLvlLbl val="0"/>
      </c:catAx>
      <c:valAx>
        <c:axId val="31498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96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15A-E0BC-4D10-8FDE-9A0AB3E5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F5D-95BA-482F-BFFA-5DA08BBD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2FD-2570-40B5-AB96-53861641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154-F7C9-4CA9-B356-E8236C2A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763-B79A-4162-8C17-75C45DA0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A66-6B1D-4BBF-B644-06AF3937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D4C-C958-4E16-BCF4-FAC6D73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8B2-3660-4173-BBB8-44466CB3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DAB-9FF5-45E1-A06B-7477BE41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33D-BC81-44A8-8239-AFB23EC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711-39E1-4DD7-99CC-3F9B6BE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B82-B152-4214-8F2E-F496BDD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08ECB-2DA0-4B65-B688-AA0C646C0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