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93112"/>
        <c:axId val="60277431"/>
      </c:barChart>
      <c:catAx>
        <c:axId val="54593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77431"/>
        <c:crosses val="autoZero"/>
        <c:auto val="1"/>
        <c:lblAlgn val="ctr"/>
        <c:lblOffset val="100"/>
        <c:noMultiLvlLbl val="0"/>
      </c:catAx>
      <c:valAx>
        <c:axId val="60277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93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924-8123-44BD-9AEC-C91905E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55A-EA80-41CE-9CEC-ACD6E57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C26-C975-4F99-8329-C411CBF7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650-7D8C-4452-94FC-7752F10F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C5E-37E3-46BC-99E3-2287228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C25-1C6F-42B5-8DD6-777B069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5C9-6C06-42F8-A537-7BE89CA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6AE-C4C0-47D7-A9D4-F3292A6E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2C7-B3E8-4CAB-85B7-23738B70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A9C-AB00-484F-A8F2-32EB7976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B2B-9132-48F3-B7A5-A71F3D2C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C07-0EF2-451D-AB5B-4E83757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03E0-A6FB-47C3-A86C-0F75CEA41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