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06965"/>
        <c:axId val="4930352"/>
      </c:barChart>
      <c:catAx>
        <c:axId val="86806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352"/>
        <c:crosses val="autoZero"/>
        <c:auto val="1"/>
        <c:lblAlgn val="ctr"/>
        <c:lblOffset val="100"/>
        <c:noMultiLvlLbl val="0"/>
      </c:catAx>
      <c:valAx>
        <c:axId val="4930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6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ACF-7E8E-4FC1-A835-5949C855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4CD-1E9F-4E41-A632-54CF0298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374-F39F-4D9D-A92C-85736393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53C-9FE3-426A-8A55-032371EB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2B5-C9C5-4809-BE35-0EE8B87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C61-EBE7-44A9-9590-F11A38CD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1CB-B90B-4CFD-BAE0-38C09A5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A7D-339B-4A1C-BC74-FEFBE59B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ABF-3140-4C62-878C-006A212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AFD-9CB7-4B61-B686-856547B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4F1-24B8-4B62-A66B-FE94E64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A40-41CB-474E-BC0A-71986C0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514CC-F90F-47A9-901B-4A3EBA8DEC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