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03641"/>
        <c:axId val="73577820"/>
      </c:barChart>
      <c:catAx>
        <c:axId val="40503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77820"/>
        <c:crosses val="autoZero"/>
        <c:auto val="1"/>
        <c:lblAlgn val="ctr"/>
        <c:lblOffset val="100"/>
        <c:noMultiLvlLbl val="0"/>
      </c:catAx>
      <c:valAx>
        <c:axId val="73577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03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7EF-599F-4F5F-A2AF-6CD31E11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0EE-AC98-4E90-8AE3-FF150FA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FE4-DB79-45AC-8477-AE66EB2E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167-D4AE-449C-80AD-F83241F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A7A-E203-4D66-A2E6-3BCC9CB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09D-0112-4823-ACC4-97B335A4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585-FDD3-4EFF-A736-A388BAE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30D-42AC-4D67-9633-35616475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1CE-10BC-4788-A389-4C37D29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DF3-313A-4D51-9C9D-FF68004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395-AE6A-43A3-9353-3D0BD1B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C3E-BEEA-417C-93F0-983881C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F5C3D-DFA0-4B75-8F49-4CC74E625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