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30347"/>
        <c:axId val="70536790"/>
      </c:barChart>
      <c:catAx>
        <c:axId val="25130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6790"/>
        <c:crosses val="autoZero"/>
        <c:auto val="1"/>
        <c:lblAlgn val="ctr"/>
        <c:lblOffset val="100"/>
        <c:noMultiLvlLbl val="0"/>
      </c:catAx>
      <c:valAx>
        <c:axId val="70536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30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380-232A-4D0F-A7EB-6920EB3D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B8F-7BAE-462A-A6C7-8C605A6C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66E-53E6-4853-9FC5-8BE01005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EB4-4A45-461D-ACEB-54F0B56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FF1-2658-4130-9B5C-7FAF0FAC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2B4-B8D0-4716-B650-0480A96C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5C3-73D7-45AB-9E4F-723C820B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A97-50ED-480B-AFBE-26BB062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F1B-D99A-410F-BE01-2D7A90B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9E0-619E-4B7E-87D4-505685A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575-C584-4DC8-8731-52C31F6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855-7FB8-4C0D-B6A1-40477B9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01242-1B6F-4469-84E2-9152FD5139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