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04700"/>
        <c:axId val="34959036"/>
      </c:barChart>
      <c:catAx>
        <c:axId val="71004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59036"/>
        <c:crosses val="autoZero"/>
        <c:auto val="1"/>
        <c:lblAlgn val="ctr"/>
        <c:lblOffset val="100"/>
        <c:noMultiLvlLbl val="0"/>
      </c:catAx>
      <c:valAx>
        <c:axId val="34959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04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6C0-0767-4235-B97E-0BBBB43D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16B-7D0D-479A-8F12-14B26056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FD7-4041-48DC-AB42-C68310DC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8E3-EA1F-4AAE-A31B-0F41E66F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7D3-00F8-4127-A6BA-BB4CB079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80B-2965-4724-A24D-D6C2CA4F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8C2-C477-440D-80A5-53698D81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526-A7CA-410F-8831-BE219F48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601-CEFA-4691-B9D6-E3BCC346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82E-75FF-4973-8EE8-935BDE8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213-401D-4C6E-8B40-31EE7EA4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C5E-1331-4487-9005-173E0B0A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7FBEE-928E-49F3-878B-C228A82FF4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