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33991"/>
        <c:axId val="44369"/>
      </c:barChart>
      <c:catAx>
        <c:axId val="54833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69"/>
        <c:crosses val="autoZero"/>
        <c:auto val="1"/>
        <c:lblAlgn val="ctr"/>
        <c:lblOffset val="100"/>
        <c:noMultiLvlLbl val="0"/>
      </c:catAx>
      <c:valAx>
        <c:axId val="44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33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9D2-BE68-46A0-B05B-77E474A9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266-735B-44C0-8892-AC593DBA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FA2-1955-4945-A787-1E1DCC69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A5B-2A13-4E81-96D2-0A0FAC57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AEB-8D5D-4D82-A369-491F59A5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133-6154-4BCA-8F1C-D65500C0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89B-5125-408A-92F9-2364E925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E01-6123-434C-B68B-8D328297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AD8-B7E1-4844-8421-120ED42B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8BC-B733-45ED-9B93-65D06235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C9E-BA19-4583-8559-F7DA32CB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DABC-4860-44D2-8AB4-B6936252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D4663-7E28-44FE-816A-AE241ADFB6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