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93202"/>
        <c:axId val="76975262"/>
      </c:barChart>
      <c:catAx>
        <c:axId val="82593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75262"/>
        <c:crosses val="autoZero"/>
        <c:auto val="1"/>
        <c:lblAlgn val="ctr"/>
        <c:lblOffset val="100"/>
        <c:noMultiLvlLbl val="0"/>
      </c:catAx>
      <c:valAx>
        <c:axId val="76975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93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EE1-F3DA-4BA6-A8E4-5045F130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96E-0390-4A36-954B-C8DBC633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E59-40CF-435F-A4B1-224B15A4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CA6-3851-4B28-A0AF-DC8041FB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2CC-D0FE-4A9D-973C-D7CBDA31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56B-4885-4858-878C-8CA2BFE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D67-E68F-47EB-A6CA-CCD4C48F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1E7-9B18-4C7F-AA25-8E495FDD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C45-7348-4804-9575-0EEAD723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415-3E72-451E-9CCF-968C033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62B-78BA-4CB5-885D-82E8634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8B9-0D79-4C41-90D0-8E6DB2F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FE7FB-D5DC-4310-B6C4-8B4D42DDC6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