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15315"/>
        <c:axId val="45216523"/>
      </c:barChart>
      <c:catAx>
        <c:axId val="45015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16523"/>
        <c:crosses val="autoZero"/>
        <c:auto val="1"/>
        <c:lblAlgn val="ctr"/>
        <c:lblOffset val="100"/>
        <c:noMultiLvlLbl val="0"/>
      </c:catAx>
      <c:valAx>
        <c:axId val="45216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15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728-E931-4CD0-9183-6E9EE411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D9C-B9D7-4CB9-87FF-0E23945A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65A-7A9B-4972-9337-4687FD6D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E9E-C08E-4DA4-A671-9025078D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B18-5E63-4740-BD3B-3F3BB4CF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9FE-E6E3-4D3C-A3BD-F5380BCD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0C2-C16E-494B-9793-25236DA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CB0-31DB-4D57-B1AB-BF3CC224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2CE-D96F-48FA-B9DE-7BE19721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983-7A50-4D8D-BF24-84017178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5DD-C13C-43F2-AAA8-9DEB6C99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B1C-0F2F-43A9-9C75-B33B46E2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E9B02-EDC1-453C-80E0-4C3B459299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