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7926"/>
        <c:axId val="6679849"/>
      </c:barChart>
      <c:catAx>
        <c:axId val="6697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9849"/>
        <c:crosses val="autoZero"/>
        <c:auto val="1"/>
        <c:lblAlgn val="ctr"/>
        <c:lblOffset val="100"/>
        <c:noMultiLvlLbl val="0"/>
      </c:catAx>
      <c:valAx>
        <c:axId val="6679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7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FAB-8888-4EB0-8454-701079E8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E92-D645-48B1-9ED3-2B4528A8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F80-280B-497B-9938-54F3F970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864-D6B5-4CBD-9AFE-30D9BC48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CCE-7A60-4F78-9DE6-9610A0BC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7C2-A627-4194-8178-96EAED44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2DA-F8B6-46D1-9879-A1806F43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643-1691-40C3-A169-95775BAA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842-A83F-4CAB-A10E-9B65254B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249-7333-4B5E-90D9-092CC492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C21-FFBE-44B6-B30D-E27BE425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7BA-B16A-42C0-83B5-AED962BC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9A89B-5B1F-4253-B755-F609113D09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