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61581"/>
        <c:axId val="68368972"/>
      </c:barChart>
      <c:catAx>
        <c:axId val="60661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68972"/>
        <c:crosses val="autoZero"/>
        <c:auto val="1"/>
        <c:lblAlgn val="ctr"/>
        <c:lblOffset val="100"/>
        <c:noMultiLvlLbl val="0"/>
      </c:catAx>
      <c:valAx>
        <c:axId val="68368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61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6DD-0B09-4EBF-B538-AA4C03FB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CA9-07D6-46C8-A503-8226433C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735-6346-41B2-9692-4BB7CBFB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863-14E8-40A5-9C1D-182FD8B2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F25-84CD-454F-9FD4-674F35FF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1C7-53B2-441A-B524-65674DD3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940-6B99-479D-A3C8-027AD727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419-9CBA-411B-AD2E-4F333E21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E5D-DDDF-49E7-9192-CDD42ED4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BD2-A420-42DE-9C1B-B5EF0C1F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DEE-52DC-44A9-85C7-C3CD9352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2D3-F85D-48CE-B4E4-D93ED282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B25A2-CCCF-4F8B-A41D-DAEF0D7120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