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740067"/>
        <c:axId val="60426870"/>
      </c:barChart>
      <c:catAx>
        <c:axId val="517400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26870"/>
        <c:crosses val="autoZero"/>
        <c:auto val="1"/>
        <c:lblAlgn val="ctr"/>
        <c:lblOffset val="100"/>
        <c:noMultiLvlLbl val="0"/>
      </c:catAx>
      <c:valAx>
        <c:axId val="60426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7400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189F-C580-4EBD-9399-833931EB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4083-9DD2-4488-92E2-E4474FF6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06BF-F82D-448A-A8A4-D1B902F00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747F-A96E-41F7-91D7-D9ECD295B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0BB-9BF1-47CF-9458-098A2200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FFFE-6838-452E-9A85-9D609E63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51D-0185-4DFD-AB47-32CEC874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455C-FA93-487C-BCEC-61002E30E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50FA-5B6C-43C5-B062-4CCE0A24C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BAE6-2CDE-440A-83F2-8E3F911D7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9631-3CF1-4E76-9146-733959086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AD03-B369-4895-B4E6-2EA3D6CE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B301E-E961-4C12-8A32-5679DA28D0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