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772814"/>
        <c:axId val="98941186"/>
      </c:barChart>
      <c:catAx>
        <c:axId val="417728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41186"/>
        <c:crosses val="autoZero"/>
        <c:auto val="1"/>
        <c:lblAlgn val="ctr"/>
        <c:lblOffset val="100"/>
        <c:noMultiLvlLbl val="0"/>
      </c:catAx>
      <c:valAx>
        <c:axId val="98941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728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105C-A031-4DED-8401-A650015D7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DFC-7CA0-4358-9DF9-62435855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ACF6-6650-4378-B310-F824BD9B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E650-49D5-46FD-9A0D-390CB1D7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051-89E4-4D49-B747-C902DE2A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0A38-64C3-494E-8BFB-555D69B7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718-219B-478E-A4B1-46015F76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34B2-8E3E-4ED8-92EA-4AB6274B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9D6-FF43-4E9B-AD10-F2756403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20D-4DCB-4B33-8488-6F273D66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4AD1-C08A-4D2A-96C3-0A84D9A7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1DC-6F29-476A-A50E-701A398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A1545-DD5F-46BF-BC35-628CCC7AA0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