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73149"/>
        <c:axId val="73209108"/>
      </c:barChart>
      <c:catAx>
        <c:axId val="320731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209108"/>
        <c:crosses val="autoZero"/>
        <c:auto val="1"/>
        <c:lblAlgn val="ctr"/>
        <c:lblOffset val="100"/>
        <c:noMultiLvlLbl val="0"/>
      </c:catAx>
      <c:valAx>
        <c:axId val="732091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731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11AE-2B8F-475F-A7DF-5B0B1FDFB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0BDE-8DC5-41E4-A231-4DFA2E99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2A5-8163-4592-B4B0-29B8D657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22BB-2BEA-4FE0-8256-CAA876E6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2DA-1D7B-4BEF-9805-36769AF2D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7962-8A17-4C60-A951-CCAE9F10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981-A261-4F7C-B03B-C13F697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1B9E-685B-477E-A5AC-20DD6C50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00A-8F88-4B66-A1A8-9F7757B4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64C6-6D0E-4AEC-9C83-FC5B224E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8BA3-D585-4520-B254-354A5B1D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2989-9995-4B72-A3B4-E13B8FD5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4C5E0-B84D-48C6-8EC1-C355EB0F9B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