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736716"/>
        <c:axId val="76981285"/>
      </c:barChart>
      <c:catAx>
        <c:axId val="687367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981285"/>
        <c:crosses val="autoZero"/>
        <c:auto val="1"/>
        <c:lblAlgn val="ctr"/>
        <c:lblOffset val="100"/>
        <c:noMultiLvlLbl val="0"/>
      </c:catAx>
      <c:valAx>
        <c:axId val="769812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367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D491-DBDD-44C3-96DE-6E1F88D4C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E5BD-64D3-4A53-B933-5B531B85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5A0C-9A82-4C92-8043-3B7BB2E47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3875-AD44-4DB9-B9F1-B348E5DAB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732C-EF21-4CDA-874B-F54B94D0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DF18-2A75-41E2-BD13-0432C347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088D-45FA-4A8C-BD5E-4F5D073D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01D1-1008-4050-B2F7-D26A24B3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8B6C-E011-439B-81A5-6F054F3B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4BC5-E9B8-4991-A8EC-84524ABF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47BE-7D4C-4CEE-9AE7-50BE947B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299C-C9D6-4E04-8BE6-2A11F12C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C313E-5902-4B5F-BB94-C3F197DEA3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